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884-FBBB-4468-83E8-6C136207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4D9-9B7A-4278-8C4F-C2C3B1F9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971-14B2-4BA4-8824-018DBEE7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776-6059-4AF1-9623-B5E0D81D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DFE-49A7-4B77-AECD-03455D5C0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D10-9D2E-45E0-AD2C-671FDEAE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FC8D-EE75-4AEC-AAFE-44AB6246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ADE6-DEDA-4B11-9AA2-D08127F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659-C42D-4321-BC16-B634F654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BDF1-A70B-44E1-998E-78AF2BA8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C95-1AD8-4FA6-BD8D-2AC9CA2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30A-D94C-4833-806D-2E6FE71F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FB91-78E7-4BEE-AAED-6F4EE60EB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285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บงานที่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รอบ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12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เดือน 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ส่วนงานย่อย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บบติดตาม ปย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ผอ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โรงเรียน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ทัศนคติที่ดีและสนับสนุนการปฏิบัติงาน</a:t>
            </a:r>
            <a:r>
              <a:rPr b="1" lang="th-TH" sz="4800" spc="-1" strike="noStrike">
                <a:solidFill>
                  <a:srgbClr val="ff0000"/>
                </a:solidFill>
                <a:latin typeface="Arial"/>
              </a:rPr>
              <a:t>แต่ไม่มีการติดตามผลการตรวจสอบและประเมินผลอย่างสม่ำเสมอ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มาตรการการใช้งบประมาณที่เหมาะสม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การจัดทำแผนบริหารความเสี่ยงและระบบการควบคุมภายใน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มีการกำหนดตัวชี้วัดและประเมินตัวชี้วัดตามคำรับรองการปฏิบัติราชการ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14240" y="642960"/>
          <a:ext cx="6905880" cy="4929120"/>
        </p:xfrm>
        <a:graphic>
          <a:graphicData uri="http://schemas.openxmlformats.org/drawingml/2006/table">
            <a:tbl>
              <a:tblPr/>
              <a:tblGrid>
                <a:gridCol w="3453120"/>
                <a:gridCol w="3452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องค์ประกอบ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ผลการประเมิน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ข้อสรุ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ภาพแวดล้อม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บริหารและบุคลากรในหน่วยงานมีค่านิยมทัศนคติที่ดี และมีความมุ่งมั่นในการสนับสนุนการจัดการศึกษาแบบมุ่งผลสัมฤทธิ์ โดยเน้นผู้เรียนเป็นสำคัญอย่างมีประสิทธิภาพและประสิทธิผ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รงเรียน มีระบบการบริหารจัดการที่ดี โดยผู้บริหารและบุคลากรมีทัศนคติที่ดีและสนับสนุนการจัดการศึกษาอย่างมีประสิทธิภาพ</a:t>
                      </a:r>
                      <a:r>
                        <a:rPr b="0" lang="th-TH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อย่างไรก็ตามการติดตามผลการปฏิบัติงานของผู้บริหารไม่ต่อเนื่องเนื่องจากมีภารกิจที่ต้องปฏิบัติมา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81080" y="765000"/>
            <a:ext cx="87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 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นำกิจกรรมที่ยังไม่ลดความเสี่ยง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ิ่งที่พบจาก           การประเมิน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องค์ประกอบ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กิจกรรมที่อยู่ในแบบ ปย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. 2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ของกลุ่ม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มาสรุปลงใน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81080" y="765000"/>
            <a:ext cx="8712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นำกิจกรรมที่ปรากฏ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ใน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3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มาสรุปใน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81080" y="765000"/>
            <a:ext cx="8712000" cy="88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อนึ่ง การควบคุมภายในยังคงมีจุดอ่อนที่มีนัยสำคัญ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ระบบการประกันคุณภาพภายในสถานศึกษาบางส่วนยังไม่เป็นไปตามมาตรฐาน เนื่องจากขาดงบประมาณสนับสนุน  ซึ่งจะจัดสรรงบประมาณเพื่อพัฒนาระบบดังกล่าวให้เป็นไปตามมาตรฐานต่อไ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81080" y="765000"/>
            <a:ext cx="87120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อนึ่ง การควบคุมภายในยังคงมีจุดอ่อนที่มีนัยสำคัญ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2.   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การกำกับ ติดตามผลการปฏิบัติงานของผู้บริหารบางเรื่องยังไม่มีประสิทธิภาพเท่าที่ควร แต่ผู้ปฏิบัติได้มีการรายงานผลการปฏิบัติงานเป็นระยะๆ อย่างสม่ำเสม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81080" y="765000"/>
            <a:ext cx="871200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อนึ่ง การควบคุมภายในยังคงมีจุดอ่อนที่มีนัยสำคัญ ดังนี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ffff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การพัฒนาผลสัมฤทธิ์ทางการเรียนโรงเรียนขนาดเล็กยังไม่เป็นไปตามมาตรฐานที่กำหนด ซึ่งจะมีการสร้างเครือข่ายการเรียนร่วม เพื่อใช้ทรัพยากรและมีการทำข้อตกลงการทำงาน 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OU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1" lang="th-TH" sz="4400" spc="-1" strike="noStrike">
                <a:solidFill>
                  <a:srgbClr val="ffff00"/>
                </a:solidFill>
                <a:latin typeface="Arial"/>
              </a:rPr>
              <a:t>ร่วมก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0" y="285840"/>
            <a:ext cx="914400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จากการติดตามเอกสาร พบว่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-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กิจกรรมการเรียนการสอน ผลสัมฤทธิ์ทางการเรียนต่ำ มีแผนปรับปรุง จำน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ข้อ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คอลัมน์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5)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ต่ยังไม่สามารถลดความเสี่ยงลงได้ในระดับที่น่าพอใจ เนื่องจากงบประมาณที่สนับสนุนสถานศึกษายังไม่เพียงพอ จึงต้องทำแผนปรับปรุงการควบคุมภายในเพิ่มเติ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0" y="2858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                           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บงานที่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รอบ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12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เดือน 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หน่วยรับตรวจ</a:t>
            </a:r>
            <a:r>
              <a:rPr b="1" lang="th-TH" sz="5400" spc="-1" strike="noStrike">
                <a:solidFill>
                  <a:srgbClr val="ff0000"/>
                </a:solidFill>
                <a:latin typeface="Angsana New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บบติดตาม ปอ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3  (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ใช้ข้อมูลเดียวกันกับแบบติดตาม ปย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. 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0" y="28584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จากการติดตามเอกสาร พบว่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-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กิจกรรมการจัดการเรียนการสอน ผลสัมฤทธิ์ทางการเรียนต่ำ มีแผนปรับปรุง จำนวน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3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ข้อ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คอลัมน์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5) </a:t>
            </a:r>
            <a:r>
              <a:rPr b="1" lang="th-TH" sz="5400" spc="-1" strike="noStrike">
                <a:solidFill>
                  <a:srgbClr val="ffffff"/>
                </a:solidFill>
                <a:latin typeface="Angsana New"/>
              </a:rPr>
              <a:t>แต่ยังไม่สามารถลดความเสี่ยงลงได้ในระดับที่น่าพอใจ เนื่องจากงบประมาณที่สนับสนุนสถานศึกษายังไม่เพียงพอ จึงต้องทำแผนการปรับปรุงการควบคุมภายในเพิ่มเติ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1116000" y="5746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488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ลุ่มบริหารวิชาการ มีระบบการบริหารจัดการที่ดีโดยผู้บริหารและบุคลากรมีทัศนคติที่ดีและสนับสนุนการจัดการศึกษาอย่างมีประสิทธิภาพอย่างไรก็ตามการติดตามผลการปฏิบัติงานของผู้บริหาร ไม่ต่อเนื่องเนื่องจากมีภารกิจที่ต้องปฏิบัติมาก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77724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14240" y="642960"/>
          <a:ext cx="6905880" cy="4929120"/>
        </p:xfrm>
        <a:graphic>
          <a:graphicData uri="http://schemas.openxmlformats.org/drawingml/2006/table">
            <a:tbl>
              <a:tblPr/>
              <a:tblGrid>
                <a:gridCol w="3453120"/>
                <a:gridCol w="3452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องค์ประกอบ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ผลการประเมิน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8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ข้อสรุ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สภาพแวดล้อมการควบคุ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บริหารและบุคลากรในหน่วยงานมีค่านิยมทัศนคติที่ดี และมีความมุ่งมั่นในการสนับสนุนการจัดการศึกษาแบบมุ่งผลสัมฤทธิ์ โดยเน้นผู้เรียนเป็นสำคัญอย่างมีประสิทธิภาพและประสิทธิผ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ลุ่ม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...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มีระบบการบริหารจัดการที่ดี โดยผู้บริหารและบุคลากรมีทัศนคติที่ดีและสนับสนุนการจัดการศึกษาอย่างมีประสิทธิภาพ</a:t>
                      </a:r>
                      <a:r>
                        <a:rPr b="0" lang="th-TH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อย่างไรก็ตามการติดตามผลการปฏิบัติงานของผู้บริหารไม่ต่อเนื่องเนื่องจากมีภารกิจที่ต้องปฏิบัติมา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7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ารประเมินผลการควบคุมภายในด้วยตนเอง      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SA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4800"/>
            </a:b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       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81080" y="765000"/>
            <a:ext cx="871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นำกิจกรรมที่ยังไม่ลดความเสี่ยง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ิ่งที่พบจาก           การประเมิน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องค์ประกอบ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สิ่งที่พบจากการประเมิน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SA  </a:t>
            </a: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มาสรุปลงในแบบ ปย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1080" y="765000"/>
            <a:ext cx="871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หน่วยรับตรวจ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รอบ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12 </a:t>
            </a: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เดือ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-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แบบติดตาม ปอ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. 3  (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ใช้ข้อมูลเดียวกับ แบบติดตาม ปย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. 2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รอบ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12 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เดือน</a:t>
            </a:r>
            <a:r>
              <a:rPr b="1" lang="th-TH" sz="4400" spc="-1" strike="noStrike">
                <a:solidFill>
                  <a:srgbClr val="f2f2f2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5:04:43Z</dcterms:created>
  <dc:creator>ok</dc:creator>
  <dc:description/>
  <dc:language>en-US</dc:language>
  <cp:lastModifiedBy>kobchai</cp:lastModifiedBy>
  <dcterms:modified xsi:type="dcterms:W3CDTF">2012-07-14T08:37:21Z</dcterms:modified>
  <cp:revision>39</cp:revision>
  <dc:subject/>
  <dc:title>ภาพนิ่ง 1</dc:title>
</cp:coreProperties>
</file>